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26D-C4E3-4E79-8359-75331F8F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2E4-441F-49B6-A2C2-3B75DFD4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65B-DBFC-4135-9663-C3A71BAC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C35-4608-48F4-8950-146099A5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ADBC9-A671-4D41-9BBB-EB43715D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30E38-9E6E-449B-B057-E6BB45DE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D2247-93DD-4E22-98B5-8ADB9B4E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B8057-8942-4236-A68A-F4D343AF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C6882-88BF-4475-A915-B9D848C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C7AB7-BAFF-4C37-8AD0-ADE89047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45C0E-DEC8-4114-8D86-C8663E1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5F1-AA06-476A-9FED-BE38AC4A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C49CC-E077-4807-8697-5D859643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E49E1-6EC1-45A7-BF91-FC3A8C85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BBD8B-9B74-448D-8AF5-00631C0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5DF4B-4107-4D08-BA50-57683314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C11FB-8C1C-475F-8163-80751E6B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3B9-B31A-46E8-BE26-15083F49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82D-9C46-49F4-ADF3-4FAD8035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780-4B82-430D-90E3-F5F9E10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2C7-8A7A-4F2B-863A-FCAB0330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E84-4F4F-4E12-83AA-43B9493A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EFA-356D-4F5D-938B-63A99B02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BBA-D935-4BA7-9A30-A288B53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154F-D67A-4BE4-8756-7330D7223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44A3-8E10-4763-A7A9-3E74B8489B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мметрия вокруг н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15000" y="4648320"/>
            <a:ext cx="2971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ная работа учащихся 2 клас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сецкая Л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Бавлы 2010-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leaf-1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752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 этап.Представление результатов исследования.</a:t>
            </a: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52280" y="304920"/>
            <a:ext cx="87631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Познакомить учащихся с симметрией,с видами симмет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Формировать умение работать источниками             литературы,навыки самостоятельной раб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емя исследова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-3 четвер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раст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2"/>
          <p:cNvPicPr/>
          <p:nvPr/>
        </p:nvPicPr>
        <p:blipFill>
          <a:blip r:embed="rId1"/>
          <a:stretch/>
        </p:blipFill>
        <p:spPr>
          <a:xfrm>
            <a:off x="1371600" y="3321000"/>
            <a:ext cx="54864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0_700b_d001427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1 этап.Погружение в проект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Есть ли будущее без симметрии?                         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_16a45_b338c28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52280" y="0"/>
            <a:ext cx="86868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2 этап.Работа над проектом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Что такое симметр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Где вокруг нас симметр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Виды симметрия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0_f895_5af8e4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aboc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784521_large"/>
          <p:cNvPicPr/>
          <p:nvPr/>
        </p:nvPicPr>
        <p:blipFill>
          <a:blip r:embed="rId1"/>
          <a:stretch/>
        </p:blipFill>
        <p:spPr>
          <a:xfrm>
            <a:off x="0" y="33526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isunok192"/>
          <p:cNvPicPr/>
          <p:nvPr/>
        </p:nvPicPr>
        <p:blipFill>
          <a:blip r:embed="rId2"/>
          <a:stretch/>
        </p:blipFill>
        <p:spPr>
          <a:xfrm>
            <a:off x="0" y="3808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1260623899_547"/>
          <p:cNvPicPr/>
          <p:nvPr/>
        </p:nvPicPr>
        <p:blipFill>
          <a:blip r:embed="rId3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50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50086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1290882055_podsolnuh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228600" y="380880"/>
            <a:ext cx="8915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3 этап.Самостоятельные исследования учащихся в рамках учебного проек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Виды симмет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сецкая Лена</cp:lastModifiedBy>
  <dcterms:modified xsi:type="dcterms:W3CDTF">2011-04-09T05:2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